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125-F00D-4501-A5FC-0453A7CB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946-D6EE-482F-80F0-1150C90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59F-CAF6-40ED-B69C-E12B2921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AEB-3025-4B71-9460-8D54ECEE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E1A-A957-4FEC-9140-909A2C7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512-B578-4AA9-9709-442828A5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45B-F7EE-4E4E-B5E1-BB81E73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54B-0BBD-49E6-82B0-08912842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14D-B47B-4D56-93C9-A4E3F2F7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D18-0F84-4520-844F-64585E6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8B3-E3BF-47C1-B7C0-6D553C0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902-6AF3-4C1F-B7DE-0CC8863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9BA81-EAAF-4552-BF8B-89E7CE988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BF739-0F4A-4533-B95D-385BFE7B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artina.jpg"/>
          <p:cNvPicPr/>
          <p:nvPr/>
        </p:nvPicPr>
        <p:blipFill>
          <a:blip r:embed="rId1"/>
          <a:stretch/>
        </p:blipFill>
        <p:spPr>
          <a:xfrm>
            <a:off x="311040" y="0"/>
            <a:ext cx="5565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Night-Rain.icns"/>
          <p:cNvPicPr/>
          <p:nvPr/>
        </p:nvPicPr>
        <p:blipFill>
          <a:blip r:embed="rId2"/>
          <a:stretch/>
        </p:blipFill>
        <p:spPr>
          <a:xfrm>
            <a:off x="8370720" y="249552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vercast.icns"/>
          <p:cNvPicPr/>
          <p:nvPr/>
        </p:nvPicPr>
        <p:blipFill>
          <a:blip r:embed="rId3"/>
          <a:stretch/>
        </p:blipFill>
        <p:spPr>
          <a:xfrm>
            <a:off x="8312040" y="319716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Sleet.icns"/>
          <p:cNvPicPr/>
          <p:nvPr/>
        </p:nvPicPr>
        <p:blipFill>
          <a:blip r:embed="rId4"/>
          <a:stretch/>
        </p:blipFill>
        <p:spPr>
          <a:xfrm>
            <a:off x="8370720" y="388944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now-Occasional.jpg"/>
          <p:cNvPicPr/>
          <p:nvPr/>
        </p:nvPicPr>
        <p:blipFill>
          <a:blip r:embed="rId5"/>
          <a:stretch/>
        </p:blipFill>
        <p:spPr>
          <a:xfrm>
            <a:off x="8366040" y="484488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unny.jpg"/>
          <p:cNvPicPr/>
          <p:nvPr/>
        </p:nvPicPr>
        <p:blipFill>
          <a:blip r:embed="rId6"/>
          <a:stretch/>
        </p:blipFill>
        <p:spPr>
          <a:xfrm>
            <a:off x="8291520" y="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Thunderstorms.jpg"/>
          <p:cNvPicPr/>
          <p:nvPr/>
        </p:nvPicPr>
        <p:blipFill>
          <a:blip r:embed="rId7"/>
          <a:stretch/>
        </p:blipFill>
        <p:spPr>
          <a:xfrm>
            <a:off x="8370720" y="853920"/>
            <a:ext cx="633600" cy="63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Wind-Flag-Storm.jp2"/>
          <p:cNvPicPr/>
          <p:nvPr/>
        </p:nvPicPr>
        <p:blipFill>
          <a:blip r:embed="rId8"/>
          <a:stretch/>
        </p:blipFill>
        <p:spPr>
          <a:xfrm>
            <a:off x="8370720" y="1722600"/>
            <a:ext cx="601920" cy="601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6284880" y="6095880"/>
            <a:ext cx="24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uplicate and move the icons to the map according to the audio file. Save the file on your desktop and send it to your teac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1:09:54Z</dcterms:created>
  <dc:creator>Valeria Palladino</dc:creator>
  <dc:description/>
  <dc:language>en-US</dc:language>
  <cp:lastModifiedBy>Valeria Palladino</cp:lastModifiedBy>
  <dcterms:modified xsi:type="dcterms:W3CDTF">2010-09-20T01:16:16Z</dcterms:modified>
  <cp:revision>1</cp:revision>
  <dc:subject/>
  <dc:title>Slide 1</dc:title>
</cp:coreProperties>
</file>